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679264"/>
        <c:axId val="39065251"/>
      </c:barChart>
      <c:catAx>
        <c:axId val="926792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65251"/>
        <c:crosses val="autoZero"/>
        <c:auto val="1"/>
        <c:lblAlgn val="ctr"/>
        <c:lblOffset val="100"/>
        <c:noMultiLvlLbl val="0"/>
      </c:catAx>
      <c:valAx>
        <c:axId val="390652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6792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4C82-6D6C-47A7-92D8-B9F40CD9C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B994-619E-453D-854B-11F882EC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67A8-555A-4BA4-8765-8AE0F627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9045-A1FB-47CA-9DB0-17C2439A5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F0EC-0DAA-4CF2-91E5-6B9C19F1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2825-8ADA-480B-88AF-F57D6490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A67B-8F2E-4FC7-ACE5-BDF9A804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7307-EECF-4919-A72A-A0CC5AF4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9B2E-32F6-4046-98ED-0E4BB675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8BF3-C29C-4562-A6D4-539AF363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A601-114E-49DC-8926-8645EF45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9A15-D4C0-42DB-A3C2-D96CC831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97CF6-F479-415D-9E17-F33E0972A1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